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2CDA-DE0C-4EFE-BD5A-643A92E29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3BFC-F458-42A4-92D2-73F8C3A4B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C304-BF35-4243-B785-A8E6E6A0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C3C3-6787-4633-BAEE-7557C5425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B170-CE48-45AE-A1AD-84812DECF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8F8D-CB14-4BC0-896B-4560C6FAF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F8B8-2A0A-4DAC-B47C-63326A882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4B69-13E6-4F98-BB6E-741ED1991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353A-038C-418F-9F7A-C95467E81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DC04-0513-4580-A3C7-CDF683A06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0F25-7517-40F7-B0DF-531ED7C9D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BC2E-CF91-460B-ADD3-E1BBF8FC4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020B-75EE-4B43-BFDD-F28ED4FFB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74D9-75A5-4370-BC69-DB90D0180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F422-D630-4DEA-A8F9-5BE85DE0C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4BB9-8E32-4C96-A251-80786CF14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940-CE10-4A7D-B64D-3F1695A5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3DC-9080-4149-97CC-9704AECC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4F7B1-B848-41EE-AF82-EAE403D7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70269-3A99-4714-94A8-609C4C40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5A329-15FE-4FD3-94A3-B4FA6415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408A6-73F9-4070-901E-0EA1F996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C6A1C-C115-42C3-93A4-8DE4BB09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46571-DC8A-460D-ADDD-0258F1FC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8CBA9-E8FB-42BA-82D0-0DDF3269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225BB-BE37-4DFB-9D2A-8062E923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AF0B0-6977-4DEE-A182-489C3F86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66B13-B022-4878-8087-FD0EFA6F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B35-9BB2-4BDC-B48E-061A2A30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2A592-C53D-451D-896D-9A5AD1E0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1A166-9DE6-4B08-B141-71375C40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183E4-50B6-4442-AD81-2638378D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50898-2C0F-46B2-BA82-4F407A1C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AEA72-4DA8-49E7-942E-12CAE9CE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28090-2B1E-4F70-8A57-2153D048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03415-29E9-4049-8061-D19F5CC8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1FB13-D698-4E5C-A071-549812C6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2E0FA-3197-46D7-BBA0-25A74BAC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BB799-623F-4A20-B5E4-4E7B3594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A2F-ED71-49A2-96B3-C430E711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9AFAB-C365-4986-A683-5B177AFA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09DB9-A61A-40D1-AE96-A957CC87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5E8C1-5E0F-4E06-9B12-64597E74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A4FD8-FAF8-4FEE-976B-41975E6C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A7546-79FD-47B2-B827-701E2035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123CD-0EBD-4281-99D4-6A972FBE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41E95-398E-4C97-9803-7A39910F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6B049-C6F2-46EB-82D0-A878B710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19844-A2A4-412D-91A2-B797801D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2AEED-9ADB-44BC-9389-F6F0D8C7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4AB0-693A-46FB-82CE-2200CFF2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C87C8-B867-4CD9-9602-D146DF93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3F5E8-6CB4-4634-9E25-CF8041F3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A4DD7-CA56-4F50-BBFF-272A97DF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4AC6-20BA-417E-9A28-20A6E142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65E8-B993-488B-979C-D833E3CD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CB79-CD70-4D3B-97F9-C1A42E43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5AB2-0B61-4A24-B32B-48FDC3B7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87C2-2F4F-4463-850E-E93B15AD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8626-6B4B-4A0C-A2C1-0AF6134D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AEC-0EAC-4D43-8C9A-8AEC489F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675E-263D-44FE-A6CE-DE8B88E8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786E-435D-44D2-9DB7-55EB4E6C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4851-C5E6-4C89-9642-D21AC470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C186-DABF-498B-811D-5B9AEE30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44D6-3639-40D5-9A8E-B3498627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664-C979-470A-B6CE-1326BE11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578-20CE-495E-8B48-233386E5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8C5E3-C7EE-4B95-8BFF-46E986EF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984-EEB0-4632-B514-F142AC35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848C-F03A-4FD5-ADAB-FFCD049C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E04B8-E696-4DAC-BAED-FA89C341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7E73-3756-4244-AD0A-B5D0CBD9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AB4B9-27C6-42E4-ADC3-5A60F6A7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656C-8DBE-4703-9FAB-680EF0A5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0F6BE-036E-4A1F-A3D3-2EA2A265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FC420-CF2C-4ED0-AB55-AC7EE24A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B360-BC53-417E-B973-E4BE9B09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100E-D5A8-4C8E-8313-E025099B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6FB97-5E50-430C-8BC5-714C1AAF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114-1A78-4616-9055-8CD8A977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2CA7C-3AC0-4420-97EF-31DFFC14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A346B-63BC-4251-8A08-813EE17A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88AC0-2CFF-4FDA-9B33-CBDE9693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766A6-53E7-445F-BD1C-37A74F25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A66D7-DE52-4720-8191-628A5715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D72BD-1772-4679-A114-5B078DDA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4D9F7-D3F6-417A-A294-0E0EE347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7B93E-3A11-4BEC-837A-AEDF1C47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3E44E-0721-41FC-B630-2D851401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7922F-FBB0-4F16-AAC3-B097C9A8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25F-1CFA-4B56-82D4-72B343B9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FF6C2-4360-446A-AC8D-B3E46575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CC1F4-5144-4781-A9FF-387C71EC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5344D-C603-44FA-8A32-8EEF11E7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BF25A-6AE3-4488-97C9-BB5C657F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D3C59-CF9B-4851-9D52-877A6DDF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A1215-6E6B-4DC8-A391-2CD2368A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9ACB9-237A-433F-BF2E-978292BC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B2512-BB69-4941-BD6B-EBE2C8A0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457B4-CB0F-4234-8C01-8D900670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9C08C-8FA6-41F5-A3DA-B413081E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455-0872-46B0-A42F-703BBB59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5BE73-373D-4FA9-8859-1F62E90B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11955-721D-4046-8C4C-4D402E34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566E2-4BA5-48B8-A529-3F008F66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E3E53-3DBC-4FA4-83F1-94DFB246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F5D68-546C-44BF-AB74-FDFAB892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1E0F6-A5AD-4C72-86B5-B07F78A7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EC08D-01B0-41B0-B41B-6DE098B7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47E8A-2F48-40E4-8BF1-8D9BE30B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7F741-D214-46A3-8061-A795A50A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49526-0A2E-4D98-8AA1-3DEB87AE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242-4B5A-4BE0-BCDA-0026DC78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D9509-9655-4138-AAD1-24D62FDF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15439-67D8-4522-BC69-AB34C062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8C9C8-3410-458A-A228-1936AB1C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537F3-8CF8-4DD5-9723-8267CE17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3E797-9100-4648-9ECB-7D3DD6F5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DFFB2-0D1D-4505-A70A-9149888F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43055-7909-4B34-81B6-75892C15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4F03B-4B38-4665-9923-F322D540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24ED5-5021-4119-B292-CEF12A18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A9342-70A4-4882-AFA8-FC03FE9D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8DA9-FE1E-4F22-988C-1312E77F02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992E-3272-4339-97BF-4BF5B8AFE8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F074-60C2-4CD8-A9C5-0E90B0D777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8417-865E-4DB9-A1AC-368BDEE51B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screenpic.GIF"/>
          <p:cNvPicPr/>
          <p:nvPr/>
        </p:nvPicPr>
        <p:blipFill>
          <a:blip r:embed="rId3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Content Placeholder 3" descr="screenpic.GIF"/>
          <p:cNvPicPr/>
          <p:nvPr/>
        </p:nvPicPr>
        <p:blipFill>
          <a:blip r:embed="rId3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D43E-BA07-4EC9-B7B3-E95C732F77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BA51-331F-46B0-BEFE-D86607A76A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29CE-A052-4E75-ACA0-0A8E009390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A319-68AC-4758-BD3D-2D8CC98F32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Content Placeholder 3" descr="screenpic.GIF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647d8f"/>
          </a:solidFill>
          <a:ln w="25560">
            <a:solidFill>
              <a:srgbClr val="647d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7EE3-0FD7-480E-AD38-C5A9D6D3DC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bjective: Students will understand how call numbers are used to locate books and other materials in the libra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Numbers in the Catalo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look up a book in the catalog, you should find the call number listed. Write down both the call number and the book title and take it to the shel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3" descr="catalogcallnumbers.jpg"/>
          <p:cNvPicPr/>
          <p:nvPr/>
        </p:nvPicPr>
        <p:blipFill>
          <a:blip r:embed="rId1"/>
          <a:stretch/>
        </p:blipFill>
        <p:spPr>
          <a:xfrm>
            <a:off x="2133720" y="3429000"/>
            <a:ext cx="556236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Books on the Sh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52280" y="190512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you are looking at the shelves in your library, you want to look from left to right and top to bott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3" descr="shelfreading.jpg"/>
          <p:cNvPicPr/>
          <p:nvPr/>
        </p:nvPicPr>
        <p:blipFill>
          <a:blip r:embed="rId1"/>
          <a:stretch/>
        </p:blipFill>
        <p:spPr>
          <a:xfrm>
            <a:off x="3581280" y="1981080"/>
            <a:ext cx="529596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Call Number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the Dewey Decimal System is used in most schools, most universities use the Library of Congress classification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panic! Books will still be shelved according to their 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brary of Congr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ibrary of Congress Classification System does not label fiction and nonfiction books differently like Dewey does. All call numbers start with letters and numbers based on a specific subjec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books that start with RA565 are about environmental health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Huckleberry Fin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rts with PS1305 and this section also includes literary criticisms and essays related to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Huckleberry Fin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brary of Congress 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Content Placeholder 3" descr="lcnumbers.jpg"/>
          <p:cNvPicPr/>
          <p:nvPr/>
        </p:nvPicPr>
        <p:blipFill>
          <a:blip r:embed="rId1"/>
          <a:stretch/>
        </p:blipFill>
        <p:spPr>
          <a:xfrm>
            <a:off x="2481120" y="2598840"/>
            <a:ext cx="41817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ing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hool libraries organize books using the Dewey Decimal Syst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ction books will have call numbers starting with 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C.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n-fiction books will have call numbers starting with a set of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n-fiction books on the same topic should be found in the same area in the libra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ibrary of Congress Classification System is used at most academic libraries to organize boo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838080" y="190512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braries use different systems to organize books. Most school libraries use the Dewey Decimal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0" name="Picture 10" descr="C:\Users\Operator\AppData\Local\Microsoft\Windows\Temporary Internet Files\Content.IE5\G505IBG5\MP900439396[1].jpg"/>
          <p:cNvPicPr/>
          <p:nvPr/>
        </p:nvPicPr>
        <p:blipFill>
          <a:blip r:embed="rId1"/>
          <a:stretch/>
        </p:blipFill>
        <p:spPr>
          <a:xfrm>
            <a:off x="5867280" y="3276720"/>
            <a:ext cx="1984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wey Decima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Dewey Decimal System, books are labeled with letters and numbers so that you can find them on the shelves. These are known as call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Numbers: F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 numbers for novels and stories start with an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C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owing that they are fiction. Then come the first few letters of the author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ast name, like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W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J.K. Row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3" descr="ROW1.jpg"/>
          <p:cNvPicPr/>
          <p:nvPr/>
        </p:nvPicPr>
        <p:blipFill>
          <a:blip r:embed="rId1"/>
          <a:stretch/>
        </p:blipFill>
        <p:spPr>
          <a:xfrm>
            <a:off x="3886200" y="4114800"/>
            <a:ext cx="1447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Numbers: F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 found the right author, look at the book titles to find the exact one you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 looking f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 by the same author should be listed alphabetically by title (unless they are part of a seri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3" descr="HarryPotters.jpg"/>
          <p:cNvPicPr/>
          <p:nvPr/>
        </p:nvPicPr>
        <p:blipFill>
          <a:blip r:embed="rId1"/>
          <a:stretch/>
        </p:blipFill>
        <p:spPr>
          <a:xfrm>
            <a:off x="5410080" y="4495680"/>
            <a:ext cx="32767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Numbers: Non-F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 numbers for non-fiction books start with numbers instead of let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all numbers will start with 3 numbers followed by a period and possibly one or more numbers. For example: 391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Numbers: Non-F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like fiction books, the call number will have the first few letters of the author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ast na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3" descr="tattoobook1.jpg"/>
          <p:cNvPicPr/>
          <p:nvPr/>
        </p:nvPicPr>
        <p:blipFill>
          <a:blip r:embed="rId1"/>
          <a:stretch/>
        </p:blipFill>
        <p:spPr>
          <a:xfrm>
            <a:off x="4572000" y="3013200"/>
            <a:ext cx="528480" cy="34970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tattoobook2.jpg"/>
          <p:cNvPicPr/>
          <p:nvPr/>
        </p:nvPicPr>
        <p:blipFill>
          <a:blip r:embed="rId2"/>
          <a:stretch/>
        </p:blipFill>
        <p:spPr>
          <a:xfrm>
            <a:off x="5878440" y="2971800"/>
            <a:ext cx="935280" cy="3581280"/>
          </a:xfrm>
          <a:prstGeom prst="rect">
            <a:avLst/>
          </a:prstGeom>
          <a:ln w="0">
            <a:noFill/>
          </a:ln>
        </p:spPr>
      </p:pic>
      <p:sp>
        <p:nvSpPr>
          <p:cNvPr id="495" name="TextBox 5"/>
          <p:cNvSpPr/>
          <p:nvPr/>
        </p:nvSpPr>
        <p:spPr>
          <a:xfrm>
            <a:off x="2819520" y="3809880"/>
            <a:ext cx="1143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Numbers: Non-F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 numbers for biographies start with 92 and are organized alphabetically by the person the book is ab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 Numbers: Non-F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wey Decimal System groups non-fiction books on the same subjects together, so generally all of the books about the same topic will have a similar call number. This means you can look at one shelf and find several books on the same su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3" descr="mythologyshelf.jpg"/>
          <p:cNvPicPr/>
          <p:nvPr/>
        </p:nvPicPr>
        <p:blipFill>
          <a:blip r:embed="rId1"/>
          <a:stretch/>
        </p:blipFill>
        <p:spPr>
          <a:xfrm>
            <a:off x="5410080" y="4191120"/>
            <a:ext cx="2962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7:50:12Z</dcterms:created>
  <dc:creator>Megan Davis</dc:creator>
  <dc:description/>
  <dc:language>en-US</dc:language>
  <cp:lastModifiedBy>Laurel Harris</cp:lastModifiedBy>
  <dcterms:modified xsi:type="dcterms:W3CDTF">2013-09-09T14:00:05Z</dcterms:modified>
  <cp:revision>46</cp:revision>
  <dc:subject/>
  <dc:title>Call Numbers</dc:title>
</cp:coreProperties>
</file>